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E0E-49E3-4B03-8F7D-960BD8CE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91E-39D6-4A9F-B7E0-A31198C7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2AF-2A60-4785-9ECA-2CBDEA10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D0D-2325-464D-82E7-993A18B4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164D-6B2F-49B3-80CE-098C761E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BDE9-213F-4186-95AD-4ED5CDF0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4E0C-F1F3-4AB7-A5C8-17A3E25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6F54-3DB3-4BCE-A9A3-CE570E5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F07F-9211-44B1-A18F-A60757B7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DADF-0C4A-48F5-93E6-E19946E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78D1-63D5-41FF-A363-E036EDC3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FA4-0C75-42C5-BF4C-36820468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2F84-DEF2-424A-B7A4-EFD0ED5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3E23-21D7-4080-AD8A-33594AF1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63B3-E5EB-4805-9D0F-E4491DDB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E177-730D-44A5-A005-D66B0CAD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AC3D-E130-4AB5-8AD2-A2F92AEB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B21-EB85-41DE-B242-03A36243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D0D-DDF5-4C72-93E7-A247F297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9CF-BA04-43BB-BA82-5289C156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FA8-2A6C-4877-B4AF-248DED9B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E99-0B4C-4FAC-B662-7CACA4D5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15A-522F-4D6E-AFA2-D9DDF27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CFB-BAE2-4800-B492-C6C0D04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0366-FE6B-44AF-890D-FA7F24649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7E3E-50BE-402B-8E0E-1830D2C23B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нтиляция и пневмотранспорт перерабатывающих предпри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pnevmotransport111"/>
          <p:cNvPicPr/>
          <p:nvPr/>
        </p:nvPicPr>
        <p:blipFill>
          <a:blip r:embed="rId1"/>
          <a:stretch/>
        </p:blipFill>
        <p:spPr>
          <a:xfrm>
            <a:off x="779400" y="1600200"/>
            <a:ext cx="3389400" cy="219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vent-vysokogo-davl"/>
          <p:cNvPicPr/>
          <p:nvPr/>
        </p:nvPicPr>
        <p:blipFill>
          <a:blip r:embed="rId2"/>
          <a:stretch/>
        </p:blipFill>
        <p:spPr>
          <a:xfrm>
            <a:off x="5334120" y="1600200"/>
            <a:ext cx="2666880" cy="2052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ventilyatsiya_aspiratsiya_1"/>
          <p:cNvPicPr/>
          <p:nvPr/>
        </p:nvPicPr>
        <p:blipFill>
          <a:blip r:embed="rId3"/>
          <a:stretch/>
        </p:blipFill>
        <p:spPr>
          <a:xfrm>
            <a:off x="685800" y="4013280"/>
            <a:ext cx="3505320" cy="2235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image"/>
          <p:cNvPicPr/>
          <p:nvPr/>
        </p:nvPicPr>
        <p:blipFill>
          <a:blip r:embed="rId4"/>
          <a:stretch/>
        </p:blipFill>
        <p:spPr>
          <a:xfrm>
            <a:off x="4876920" y="3938760"/>
            <a:ext cx="35049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манометр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манометры жидкостные разделяются на U – образные и чашечные. U – образные имеют ряд недостатков и из-за своей низкой точности и большой погрешности широкого применения не нашли. Чашечные микроманометры с наклонной шкалой более точные и удобны для замеров в производственных условиях (см. рис. 3). В последнее время получил распространение дифференциальный манометр цифровой Дм Ц-01 Московского научно- производственного отделения. Прибор работает в режиме выдачи готовых значений H, υ и Q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v1Y9RL0Ge64"/>
          <p:cNvPicPr/>
          <p:nvPr/>
        </p:nvPicPr>
        <p:blipFill>
          <a:blip r:embed="rId1"/>
          <a:stretch/>
        </p:blipFill>
        <p:spPr>
          <a:xfrm>
            <a:off x="838080" y="3505320"/>
            <a:ext cx="7620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611280" y="-71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Уравнение равновесия в чашечном микроманометре с наклонной шкалой при Рв &lt; Ра имеет следующий ви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75240" cy="641520"/>
          </a:xfrm>
          <a:prstGeom prst="rect">
            <a:avLst/>
          </a:prstGeom>
          <a:ln w="0">
            <a:noFill/>
          </a:ln>
        </p:spPr>
      </p:pic>
      <p:sp>
        <p:nvSpPr>
          <p:cNvPr id="194" name="Заголовок 8"/>
          <p:cNvSpPr/>
          <p:nvPr/>
        </p:nvSpPr>
        <p:spPr>
          <a:xfrm>
            <a:off x="324000" y="2565360"/>
            <a:ext cx="8496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Р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давление первой составляюще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лы тяжести столба жидкости в трубке, которое уравновешивает разность измеряемых давлен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ление первой составляющей столба жидкости можно выразить через площадь поперечного сечения трубки, объем и плотность жидк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44103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отность воздух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основного характеристического уравнения в вентиляционной технике плотность р (кг/м3 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Р - давление воздуха, Па; Т – температур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) = 273 + 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; R – универсальная газовая постоянная.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0552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9" name="Object 7"/>
              <p:cNvSpPr txBox="1"/>
              <p:nvPr/>
            </p:nvSpPr>
            <p:spPr>
              <a:xfrm>
                <a:off x="1066680" y="2666880"/>
                <a:ext cx="282420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жность (влагосодержание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мосферный воздух никогда не бывает сухим, а содержит водяные пары. Показателями степени влажности воздуха могут быть абсолютная влажность, степень насыщения и влагосодержание. Абсолютная влажность – d (кг/м3 ) - это масса водяных паров (кг) содержащаяся в 1 м3 воздуха, т.е. плотность пара. Различают относительную влажность - (%) или степень насыщения, иными словами отношение массы пара, действительно содержащегося в 1 м3 влажного воздуха, к максимально возможному содержанию пара в 1 м3 при данной температуре dн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105520" y="25156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0552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1371600" y="541008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0"/>
              <p:cNvSpPr txBox="1"/>
              <p:nvPr/>
            </p:nvSpPr>
            <p:spPr>
              <a:xfrm>
                <a:off x="2666880" y="6019920"/>
                <a:ext cx="20808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язкость воздух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еальных жидкостей это свойство сопротивляться сдвигающим усилиям. Объясняется это молекулярным строением и молекулярными силами притяжения. Вязкость воздуха - это отношение напряжения сдвига к градиенту скорости, т.е. сила Т (1Н), которая действуя на соприкасающиеся поверхности в 1 м2 , расстояние между которыми (n = 1 м) вызывает изменение скорости ν на 1 м/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05520" y="25156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105520" y="25156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10552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985680" y="3813120"/>
                <a:ext cx="27464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инематическая вязкос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исит от давления и температуры. Запыление воздуха и его транспортирующая способность вызваны вязкостью. Это одно из важнейших свойств воздуха, лежащих в основе объяснений явлений, связанных с его движением в вентиляционных установках. Обычно все расчеты в вентиляционной технике ведутся по параметрам стандартного воздух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с = 1,0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5 Па (760 мм рт. ст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 = 1,2 кг/м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 = + 20 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=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≈ 18 10-6 Па с; с = 15 10-6 м 2 /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6"/>
              <p:cNvSpPr txBox="1"/>
              <p:nvPr/>
            </p:nvSpPr>
            <p:spPr>
              <a:xfrm>
                <a:off x="3429000" y="1447920"/>
                <a:ext cx="22096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µ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105520" y="22856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рость воздух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орость воздуха – ν (м/с) влияет на эффективность, энергоемкость и долговечность вентиляционной установки. В вентиляционной технике все расчеты ведутся по средней скорости воздуха – это фиктивная, но постоянная во всех точках поперечного сечения потока скорость, расход при которой равен фактическому при действительном распределении местных скоростей. Местная скорость – осредненная во времени продольная составляющая скорости в данной точке поперечного сечения потока. Местные скорости в различных точках поперечного сечения различны и образуют неравномерное по сечению потока поле скоростей (см. рис. 5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" descr="-8oT2WrTNos"/>
          <p:cNvPicPr/>
          <p:nvPr/>
        </p:nvPicPr>
        <p:blipFill>
          <a:blip r:embed="rId1"/>
          <a:stretch/>
        </p:blipFill>
        <p:spPr>
          <a:xfrm>
            <a:off x="1143000" y="3581280"/>
            <a:ext cx="6781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-129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скорость воздуха зависит от режима воздушного потока (ламинарный или турбулентный), т.е. от числа Rе – критерия Рейнольдса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ν – средняя скорость потока, м/с; D – диаметр трубы, м. Для стандартного воздуха Rе = 66 666 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 Re показывает соотношение сил инерции и вязкости в потоке, т.е. внутреннее тр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025960" y="1599840"/>
            <a:ext cx="3278160" cy="219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2820960" y="2057400"/>
                <a:ext cx="35020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урбулентный и ламинарный реж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улентный режим, т.е. течение (жидкости, воздуха) при котором частицы совершают неустановившиеся, неупорядоченные движения по сложным траекториям, в результате чего происходит интенсивное перемешивание различных слоев возду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минарный режим течения воздуха, т.е. упорядоченное течение (жидкости, воздуха), при котором траектории соседних частиц мало отличаются друг от друга, так что жидкость (воздух) можно рассматривать как совокупность отдельный слоев, движущихся с разными скоростями, не перемешиваясь друг с друг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rejimy1"/>
          <p:cNvPicPr/>
          <p:nvPr/>
        </p:nvPicPr>
        <p:blipFill>
          <a:blip r:embed="rId3"/>
          <a:stretch/>
        </p:blipFill>
        <p:spPr>
          <a:xfrm>
            <a:off x="1066680" y="4114800"/>
            <a:ext cx="704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нтиляц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ентиляция» - от латинского ventilatio – проветривание, удаление порченого воздуха и подача свеж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 вентиляционными установками имеется в виду совокупность специального оборудования (вентиляторов, воздуховодов, пылеотделителей и др.), объединенного в системы для осуществления воздухообмена или создания целесообразно организованных и направленных воздушных потоков в зданиях, каналах, камерах или защитных кожухах машин и аппара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значение вентиляционных установо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еспечивают нормальные санитарно-гигиенические услов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еспечивают пожаро-взрывобезопасность предприят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пособствуют эффективному ведению технологического процесса на предприят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нитарно-гигиенические усло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итарно-гигиенические задачи вентиляционных установок заключа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поддержании таких внутренних метеорологических условий (температуры, влажности, скорости движения воздуха), при которых работающий человек имеет наилучшее самочувствие и высокую производительность труда, т.е. создание комфортных условий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поддержании чистоты воздуха на высоте требований, предъявляемых гигиеническими норм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нуться к 3 слай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жаро-взрывобезопасность предприят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назначение вентиляционных установок состоит в удалении пыли как горючего и взрывоопасного материала из оборудования и помещения за счет аспирац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пирацию оборудования по условиям взрывобезопасности осуществляют так, чтобы ее концентрация в перемещаемом воздухе была не взрывоопасно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ществуют ПДК взрывоопасной концентрации пыли в воздух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элеваторах – 40-90 г/м3 (зерновой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на мукомольном, крупозаводах – 10 50 г/м3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на комбикормовом заводе – 7 25 г/м3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нижний предел, верхний предел – 2000 г/м3 для всех видов пыл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tovar-3634"/>
          <p:cNvPicPr/>
          <p:nvPr/>
        </p:nvPicPr>
        <p:blipFill>
          <a:blip r:embed="rId1"/>
          <a:stretch/>
        </p:blipFill>
        <p:spPr>
          <a:xfrm>
            <a:off x="4726080" y="1600200"/>
            <a:ext cx="3960720" cy="419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4251240" y="6361200"/>
            <a:ext cx="45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нуться к 3 слай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уют эффективному ведению технологического процесса на предприятии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тиляционные установки способствуют совершенствованию технологических процессов при: очистке от примесей в воздушных сепараторах, камнеотборниках, концентраторах; обогащении промежуточных продуктов (в ситовеечных машинах); удалении тепла (в измельчающих машинах) с целью охлаждения рабочих органов и продуктов измельчения, а также создании и поддержании оптимального технологического климата в рабочих помещениях, наиболее благоприятного для технологического процесса; активного вентилирования зерна при его хран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95880" y="6248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нуться к 3 слай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новные параметры воздух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мосферный воздух представляет собой механическую смесь газов (кислорода по массе 23,1%, азота – 75,6%, углекислого газа – 0,05%, водорода – 0,01%, инертных газов – 1,3%), водяных паров, вредных примесей (пыль, газы вредные и т.д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ентиляционных установках воздух является рабочим органом. Поэтому от его состава и параметров зависит эффективность и долговечность работы всех аспирационных се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важным физическим свойствам воздуха относят давление, плотность, вязкость, влажность и скор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вление воздуха. Приборы для измерения давлени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истеме Си за 1 ед. давления принимают Паскаль – Па = Н/м2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ентиляционной технике давление выражают через р - абсолютное, ра – атмосферное и Н – избыточн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 – ра = ± Н, т.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воздуховодах действуе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 рс – статическое давление, выражающее внутреннюю энергию 1 м3 воздуха без учета его движения; одинаково действует по всем направлениям (рис. 2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рд – динамическое давление (Па), выражающее кинематическую энергию 1 м3 воздуха и действующее в направлении скорости; его иногда называют «скоростным» и можно определить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де - плотность воздуха, кг/м3 ; ν – скорость воздуха, м/с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) ро – общее давление, выражающее полную энергию 1 м3 воздуха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Lcv7gMHNWWc"/>
          <p:cNvPicPr/>
          <p:nvPr/>
        </p:nvPicPr>
        <p:blipFill>
          <a:blip r:embed="rId5"/>
          <a:stretch/>
        </p:blipFill>
        <p:spPr>
          <a:xfrm>
            <a:off x="4865760" y="1600200"/>
            <a:ext cx="3817800" cy="2889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6"/>
          <a:stretch/>
        </p:blipFill>
        <p:spPr>
          <a:xfrm>
            <a:off x="2133720" y="3886200"/>
            <a:ext cx="1447560" cy="536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7"/>
          <a:stretch/>
        </p:blipFill>
        <p:spPr>
          <a:xfrm>
            <a:off x="914400" y="5943600"/>
            <a:ext cx="210996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7:59:44Z</dcterms:created>
  <dc:creator>User</dc:creator>
  <dc:description/>
  <dc:language>en-US</dc:language>
  <cp:lastModifiedBy>dima</cp:lastModifiedBy>
  <dcterms:modified xsi:type="dcterms:W3CDTF">2016-10-26T17:40:4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